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5A8-D6AB-462E-A4F3-B5D529BD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351-C0A1-4238-A27E-8BD6352B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FCF-56E9-456A-B490-76D84754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50B-0C5F-4BF8-AB51-19F3323D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119A-1068-4E79-8B1F-8CA504C7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9841-20C2-4FAE-A99A-7DB339C1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E8B7-C9ED-4B96-B5EB-1C63FB40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F8C8-7634-468D-A2AD-893D5FB5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CC61-3BAC-4ABE-966D-9F8B353A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6294-43B7-44F5-8975-6040FAEE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09F0-2ED5-402D-8D3D-DD11AF23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470-F6B7-4ED4-8379-FC306313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0472-EB45-4F02-A390-A704AADD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F92B-50A5-4E18-B2D9-A0752C72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45A9-6F0F-4272-A74D-13DF33A9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88AC-9098-4731-9E7B-790F64BF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77C2-AD8D-474C-9213-9CB36751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3E1B-AD51-4984-96CC-8A4DA301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5115-39A7-478E-8572-98426D27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ADB7A-4BE6-4491-8A27-878E2EDE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9FC4-9BCF-4AB9-9391-9D1BD6BD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60C88-CE08-4798-80B3-460547DA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CB3-0E52-40A3-BB31-8661D439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8439-7B22-49F8-8DD9-C10228E8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3EFAF-810B-49EB-96DE-398CDA11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43DAB-2957-443A-9168-3177DEB5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06EA1-3F7C-4F77-9AE1-35C2832A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F5361-3764-44AA-833E-404BEAE6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A6C85-5408-4A7F-BEE9-3AF27A15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2247-3F86-4EF5-856F-B31C6D61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880A3-12DB-45A2-AF93-B116C909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1432C-6BED-4F17-BED0-BDFDA2CE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E555-F0DE-446F-9D6F-F318D2D5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51B-8972-4427-AEDD-C0980B92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E6CC4-B850-41F1-B77C-5AE646BB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0D10D-8B47-4346-989F-5D55375D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40AF0-FE74-4846-9F4E-1E19C275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FCBF0-9EBE-4C51-8DCC-B15A3C7F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B44D9-9714-4933-8F3A-A8E9D409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4069B-88E9-4D40-9893-09567239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D3A26-67CA-4801-9988-F790672B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25887-5EB1-43EF-AF6D-A8519081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BCCFF-DCE0-43B6-BC6A-92C67C0C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3B8B2-CE31-428B-8959-AB12D612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4A7-DE48-44DC-B6AF-AFD9F598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F497D-8259-40DE-8383-4DC61E5F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90413-D5F0-44FB-9815-7761E4D1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6AD5B-3D62-4225-BB4E-D483E448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F0CFA-018A-4019-B2C2-72751C7F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4A314-477E-40B8-B080-403D6FBA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C6E36-9C0B-4130-9E5D-AF384E5E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80AD4-454C-4A6E-9816-6D1FACBA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38E81-31FA-4B7B-BE63-1E9C0041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DEC4D-70E4-4470-A5F4-85316FFF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321F9-D285-4BD8-A965-5C099BD9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423-0D3D-4375-ABBB-191F9035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EAE25-218E-4051-AC80-47776F22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9B45B-CFF4-4293-AB89-4A0D635E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BA0E9-DE26-4E59-BE04-B5B9C55D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6C81C-2D9A-4901-B63F-EFA3BA66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C0CD2-7569-4985-B63C-46BA46D6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136B5-60B9-4E84-A95D-B0F28263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EB05D-2C33-415C-90B8-9E959A0E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F9F5F-4F36-4642-B456-2C3964DE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5DFF0-B615-47F0-9C38-3CB3ED10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80D66-C70F-40CC-B0EE-E84282A4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240-4982-4BB7-AA35-B7B1943E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ADBA2-2C14-4C83-8F92-D0AC5AE5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A5370-2045-4E44-9D0D-CE8B8DA6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499BF-BAF1-4862-A065-BAB6C8F1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9E211-265E-4BE1-BDAC-B4FF250C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F38FE-AA15-4C98-9A34-AD68C83A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D31EC-0060-4215-915E-33867C78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4319E-331E-4F8B-B00D-C08A0740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36791-84D4-4CA5-8968-A8A73135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E02F1-4964-45F5-A787-69D2BE41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A2D7B-D1FB-422A-A963-97E1AC75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269-BBD4-416D-8C4E-5B5D43C2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0A686-FAF3-40BC-9145-0FA60E94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FF9E6-791C-49D1-BDD4-D0C9E329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3AF88-F8A2-492B-B623-FADD438E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EABDF-5664-47F2-9D48-D38FA45B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78BA7-EB38-45A1-8659-169987DA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04EC8-491C-45F9-BC5D-21D037C7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C1D4F-BB96-4FFA-A1EA-8407E69B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9C697-2C64-45DB-9771-B720DB04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08200-B124-413C-89E2-E647AC72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76E39-E990-4E1C-9C34-043E08BC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A55-1D49-45B6-A095-BE4597D3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C5E31-085F-4154-8619-A6501F21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2A3A0-19F0-420D-88E7-D672E501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7385C-E4AB-4BD5-9161-13233721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3BF5D-F5FA-4A9A-A7F7-6979F878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F1C29-2F51-4E1C-BA49-08B3C26E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FA656-DBC9-405B-A365-8831E2B0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64933-60C1-4BD7-A186-C93AADD3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AA73-E0B4-4C26-A164-E7361CA17F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8794-2989-4B0D-88BA-F9D82C4763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E42D-7718-482B-8D2D-2EC47B15C4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3E50-591F-425E-B73B-0BC91011E7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B1FB-FAF4-4E63-AC87-6125DBB796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6AE1-BD99-47AC-B181-7B9DFE093F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3663-6F4E-4909-A19B-D70D024E02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A3A8-9A67-4ECD-A65F-9FC0D02EC1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iconline.org/home" TargetMode="External"/><Relationship Id="rId2" Type="http://schemas.openxmlformats.org/officeDocument/2006/relationships/hyperlink" Target="http://www.education-world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hyperlink" Target="http://www.readwritethink.org/lessons/lesson_view.asp?id=983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achersfirst.com/index.cfm" TargetMode="External"/><Relationship Id="rId2" Type="http://schemas.openxmlformats.org/officeDocument/2006/relationships/hyperlink" Target="http://4teachers.org/" TargetMode="External"/><Relationship Id="rId3" Type="http://schemas.openxmlformats.org/officeDocument/2006/relationships/hyperlink" Target="http://www.freetech4teachers.com/" TargetMode="External"/><Relationship Id="rId4" Type="http://schemas.openxmlformats.org/officeDocument/2006/relationships/hyperlink" Target="http://www.internet4classrooms.com/" TargetMode="External"/><Relationship Id="rId5" Type="http://schemas.openxmlformats.org/officeDocument/2006/relationships/hyperlink" Target="http://www.topmarks.co.uk/" TargetMode="Externa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learningforkids.org/index.html" TargetMode="External"/><Relationship Id="rId2" Type="http://schemas.openxmlformats.org/officeDocument/2006/relationships/hyperlink" Target="http://teacher.scholastic.com/activities/clf/tguidesitemap.htm" TargetMode="External"/><Relationship Id="rId3" Type="http://schemas.openxmlformats.org/officeDocument/2006/relationships/hyperlink" Target="http://www.freerice.com/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almathlearning.com/" TargetMode="External"/><Relationship Id="rId2" Type="http://schemas.openxmlformats.org/officeDocument/2006/relationships/hyperlink" Target="http://resources.oswego.org/games/" TargetMode="External"/><Relationship Id="rId3" Type="http://schemas.openxmlformats.org/officeDocument/2006/relationships/hyperlink" Target="http://www.apples4theteacher.com/math.html" TargetMode="External"/><Relationship Id="rId4" Type="http://schemas.openxmlformats.org/officeDocument/2006/relationships/hyperlink" Target="http://mathtv.com/" TargetMode="External"/><Relationship Id="rId5" Type="http://schemas.openxmlformats.org/officeDocument/2006/relationships/hyperlink" Target="http://www.mathatube.com/" TargetMode="External"/><Relationship Id="rId6" Type="http://schemas.openxmlformats.org/officeDocument/2006/relationships/hyperlink" Target="http://www.mathwire.com/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76280" y="371520"/>
            <a:ext cx="8612280" cy="2457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62120" y="35049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akeview Academy Summer Institu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Cable in the Classro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Education Wor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Worldofteac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Readwritethin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Teachersfir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4teac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Freetech4teac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Internet4classroo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Topmark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designed for busy teachers in  need of a quick way to find classroom activities (see interactive whiteboard activiti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6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e-learningfork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sclassro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rtyga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Scholas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Freer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Visual Math Lear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Osweg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All Leve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apples4theteac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Mathtv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Middle Scho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Mathatub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tutori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Mathwi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resource for teac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7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e LeBea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rtboard Activ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tting Schools Connec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anetfes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inders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arntobehealt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7:09:32Z</dcterms:created>
  <dc:creator>Fac - Montgomery,Bruce</dc:creator>
  <dc:description/>
  <dc:language>en-US</dc:language>
  <cp:lastModifiedBy>Fac - Montgomery,Bruce</cp:lastModifiedBy>
  <dcterms:modified xsi:type="dcterms:W3CDTF">2009-07-26T15:59:02Z</dcterms:modified>
  <cp:revision>73</cp:revision>
  <dc:subject/>
  <dc:title>Free Online Resources for the Lower School Classroom</dc:title>
</cp:coreProperties>
</file>